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C9370-42B8-4ECF-9815-068EB7041D9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6DEBC-B0F4-49DC-87CC-7F46325CE39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93078-6398-466D-AB46-22D2C09C341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ACEA9-CA46-4F47-90C8-EF2B8AB63C48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21076-F7D4-463B-85BC-819E5C55F4B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AB731-6868-4C18-9CF4-7947D18DAE8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B5353-23E9-44F0-8B80-FA10EBD1D55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07044-914E-4858-93FA-BDBC9A2F05F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E345F-C07A-4BF9-8C13-B31C7697211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37F2-3EFB-4B07-BCE9-3D454940A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244D-0BB3-487F-9425-85FD98377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DFFB-52F0-4D53-A3CA-38B44908E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09367-D5E0-4CE5-9448-BBEA208F59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768B-49E9-4C18-90D4-C1F9DFF31B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260C-5095-448F-ADDD-D3334642A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D4CE-8233-41A2-9007-BAD9ADE7B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C5A2-59A8-4FBA-A190-E395227D5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B943-D84E-4E0F-9200-E92B3AA10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E096-6EEC-460A-93CA-5A52EA4E6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91139-7642-4693-84CD-D8BB84B86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30D15-7765-48E7-86C1-7E92419C8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24BAE-6CBD-4485-9C40-06B6AAAFB024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rm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rcado cosmético no Mu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rcado cosmético no 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rcado de maquiagem no 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rm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16000" y="1827360"/>
            <a:ext cx="9431280" cy="47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71280" y="1224000"/>
            <a:ext cx="9792000" cy="6264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71280" y="301680"/>
            <a:ext cx="90712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2d2db9"/>
                </a:solidFill>
                <a:latin typeface="Arial"/>
              </a:rPr>
              <a:t>  </a:t>
            </a:r>
            <a:r>
              <a:rPr b="1" lang="pt-BR" sz="4000" spc="-1" strike="noStrike">
                <a:solidFill>
                  <a:srgbClr val="2d2db9"/>
                </a:solidFill>
                <a:latin typeface="Arial"/>
              </a:rPr>
              <a:t>CANVAS                </a:t>
            </a:r>
            <a:r>
              <a:rPr b="1" lang="pt-BR" sz="2000" spc="-1" strike="noStrike">
                <a:solidFill>
                  <a:srgbClr val="2d2db9"/>
                </a:solidFill>
                <a:latin typeface="Arial"/>
              </a:rPr>
              <a:t>Linha de maquiag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7991640" y="2016000"/>
            <a:ext cx="172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Público feminino adolescente e adulto das  Classes B e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256360" y="6195960"/>
            <a:ext cx="3671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 fontScale="97000"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Venda de produtos via consultoras (venda dire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17440" y="6195960"/>
            <a:ext cx="367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 fontScale="98000"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- P&amp;D e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- Matéria-pr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- Fabricação e Distribui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032360" y="2092320"/>
            <a:ext cx="180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 fontScale="81000"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BEM ESTAR B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- Valorizar a beleza existente em toda mul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- Relação custo benefí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- Tratamento cosmético junto com maquiag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832360" y="1909800"/>
            <a:ext cx="2160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Relação é a base modelo do negócio: consultoras conhecem produtos e 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904000" y="3803760"/>
            <a:ext cx="1944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Venda dir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Relacionam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de confiança com o cliente final através da consult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087640" y="1932120"/>
            <a:ext cx="194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Produção ,  distribuição e venda de cosmé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44360" y="1728720"/>
            <a:ext cx="1800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- Fornecedores de insumos e embalag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- Comunidades que fornecem insumos sustentáve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- Consultoras de negó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2160720" y="4103640"/>
            <a:ext cx="172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d2db9"/>
                </a:solidFill>
                <a:latin typeface="Arial"/>
              </a:rPr>
              <a:t>- </a:t>
            </a:r>
            <a:r>
              <a:rPr b="0" lang="pt-BR" sz="1700" spc="-1" strike="noStrike">
                <a:solidFill>
                  <a:srgbClr val="2d2db9"/>
                </a:solidFill>
                <a:latin typeface="Arial"/>
              </a:rPr>
              <a:t>Fornecedores qualificad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2d2db9"/>
                </a:solidFill>
                <a:latin typeface="Arial"/>
              </a:rPr>
              <a:t>- Consultor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2d2db9"/>
                </a:solidFill>
                <a:latin typeface="Arial"/>
              </a:rPr>
              <a:t>Terceiros (fabricação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2d2db9"/>
                </a:solidFill>
                <a:latin typeface="Arial"/>
              </a:rPr>
              <a:t>P&amp;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14" descr="http://www.cntv.org.br/img_noticias/6689.jpg"/>
          <p:cNvPicPr/>
          <p:nvPr/>
        </p:nvPicPr>
        <p:blipFill>
          <a:blip r:embed="rId2"/>
          <a:stretch/>
        </p:blipFill>
        <p:spPr>
          <a:xfrm>
            <a:off x="2664000" y="34920"/>
            <a:ext cx="1574640" cy="11793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16" descr=""/>
          <p:cNvPicPr/>
          <p:nvPr/>
        </p:nvPicPr>
        <p:blipFill>
          <a:blip r:embed="rId3"/>
          <a:stretch/>
        </p:blipFill>
        <p:spPr>
          <a:xfrm>
            <a:off x="7870680" y="4672080"/>
            <a:ext cx="1806840" cy="101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"/>
          <p:cNvPicPr/>
          <p:nvPr/>
        </p:nvPicPr>
        <p:blipFill>
          <a:blip r:embed="rId4"/>
          <a:stretch/>
        </p:blipFill>
        <p:spPr>
          <a:xfrm>
            <a:off x="279360" y="4284720"/>
            <a:ext cx="1592280" cy="1361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"/>
          <p:cNvPicPr/>
          <p:nvPr/>
        </p:nvPicPr>
        <p:blipFill>
          <a:blip r:embed="rId5"/>
          <a:stretch/>
        </p:blipFill>
        <p:spPr>
          <a:xfrm>
            <a:off x="8166240" y="6126120"/>
            <a:ext cx="1260360" cy="12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71280" y="684360"/>
            <a:ext cx="10009440" cy="6804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-73080" y="-468360"/>
            <a:ext cx="101538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2d2db9"/>
                </a:solidFill>
                <a:latin typeface="Arial"/>
              </a:rPr>
              <a:t>  </a:t>
            </a:r>
            <a:r>
              <a:rPr b="1" lang="pt-BR" sz="3600" spc="-1" strike="noStrike">
                <a:solidFill>
                  <a:srgbClr val="2d2db9"/>
                </a:solidFill>
                <a:latin typeface="Arial"/>
              </a:rPr>
              <a:t>CANVAS</a:t>
            </a:r>
            <a:r>
              <a:rPr b="1" lang="pt-BR" sz="40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2d2db9"/>
                </a:solidFill>
                <a:latin typeface="Arial"/>
              </a:rPr>
              <a:t>Organização:                              Produto/Serviços/Processo:                                                                                                                         </a:t>
            </a:r>
            <a:r>
              <a:rPr b="1" lang="pt-BR" sz="3600" spc="-1" strike="noStrike">
                <a:solidFill>
                  <a:srgbClr val="2d2db9"/>
                </a:solidFill>
                <a:latin typeface="Arial"/>
              </a:rPr>
              <a:t>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1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6" descr=""/>
          <p:cNvPicPr/>
          <p:nvPr/>
        </p:nvPicPr>
        <p:blipFill>
          <a:blip r:embed="rId2"/>
          <a:stretch/>
        </p:blipFill>
        <p:spPr>
          <a:xfrm>
            <a:off x="7870680" y="4564080"/>
            <a:ext cx="1806840" cy="101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"/>
          <p:cNvPicPr/>
          <p:nvPr/>
        </p:nvPicPr>
        <p:blipFill>
          <a:blip r:embed="rId3"/>
          <a:stretch/>
        </p:blipFill>
        <p:spPr>
          <a:xfrm>
            <a:off x="8712360" y="6345360"/>
            <a:ext cx="1019160" cy="1014120"/>
          </a:xfrm>
          <a:prstGeom prst="rect">
            <a:avLst/>
          </a:prstGeom>
          <a:ln w="0">
            <a:noFill/>
          </a:ln>
        </p:spPr>
      </p:pic>
      <p:sp>
        <p:nvSpPr>
          <p:cNvPr id="78" name="CaixaDeTexto 1"/>
          <p:cNvSpPr/>
          <p:nvPr/>
        </p:nvSpPr>
        <p:spPr>
          <a:xfrm>
            <a:off x="2035800" y="179280"/>
            <a:ext cx="325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2d2db9"/>
                </a:solidFill>
                <a:latin typeface="Arial"/>
              </a:rPr>
              <a:t>Elaborado por:                                   Dat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18:38:33Z</dcterms:created>
  <dc:creator>luciel@uol.combr</dc:creator>
  <dc:description/>
  <dc:language>en-US</dc:language>
  <cp:lastModifiedBy>ssssss</cp:lastModifiedBy>
  <dcterms:modified xsi:type="dcterms:W3CDTF">2014-07-30T23:33:02Z</dcterms:modified>
  <cp:revision>26</cp:revision>
  <dc:subject/>
  <dc:title>Natura – linha de maquiagem</dc:title>
</cp:coreProperties>
</file>